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8FD-6AFD-4E55-9DC8-B42D9B0B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F11-D54C-4D56-8018-4F136FD1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814D4-95AA-4979-9569-FF05A6ED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583CF-60EF-4296-A53D-3C85813A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D81D3-6637-4865-9C48-395BBE2F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81135-F459-4344-9CF7-57063B6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CA92C-653A-4FE5-BA79-6555386A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8B96C-C83C-447B-9F63-BC8F107A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D7C04-FC67-428C-B50B-344A2D2A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D4EA-7DAF-4F70-A2D2-F5A54188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5424C-9382-44F5-91E5-E9063D20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110-E348-416E-966C-576A81B4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663-A22A-45E1-A845-61B959ED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DB03-FB81-49B1-BD62-EDD6F986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FBEF-3662-4671-B610-839579FC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D216-295D-4925-98F7-B9205654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43EC-91C0-446B-80A9-6D8AA7F5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577A-4D2D-4656-AEA5-D6BB4AD5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CB48-E7C9-4673-BF1A-FA5078B8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A058-720A-433A-999A-5E56982A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DF0-50D4-42B9-A939-0622A3B1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2503-8F91-4EE0-997D-CB719CB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E43-D6B8-4856-ACFF-B597D003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17C2-A1E7-413C-89F1-47268E7F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D542-4A24-47C7-9422-B67E2F6C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FC8-31BE-4AD9-B4F7-BBE87889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D5F0D-6F45-44EA-AEA7-FBFFFD73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E35B-0A26-4884-BDBB-74F87AB4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73F1-2A8D-4248-BFEA-1C09C7FC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4DA7-F4E0-4330-ADDF-BD692656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4BC4-41E1-4C99-B9A3-3F7533B3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DAF-CF19-4427-8004-B4028F67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A7E2-D8A2-4417-B95E-A6415E77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BD23B-32B0-4162-88CB-F3BBC59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FA92-C2A1-4DD3-86CC-46714F9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D6D1-0D59-4B53-B742-B588E0E0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B333-83F8-4971-8153-062C47F9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1545-B6F7-46E2-8838-0ADE5515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EAF2-DA0A-4DFB-89F4-65749E37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DD22-F231-4B8D-914E-DFD744AF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45B7-ECB4-49EA-9C85-532C991B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F3A31-08E9-4841-849A-99E1A218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FD7-BBA6-4943-BBA2-010D90C4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F4F85-851B-40AB-A85A-D4B14D90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C8B8D-F015-459E-AD4F-A8A03328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5BC8-D7EC-4463-AD6F-D0FD1922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DB55-0489-475D-98AF-86BBE3F4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7DD0-4B41-46C2-B2FA-60B1D62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C5E4-8671-4F6E-9158-3BEA8A5D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6987-69D3-46D2-9659-9E328A89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A9BD-ECC9-4E38-9665-DDD982DA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0FCD-7069-4C88-BA9A-AF9419F0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6E0F3-DF74-46A3-AF23-2EF28408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8F7-8BF0-4D19-9B96-1ED008E9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1B426-1974-4D4B-9817-FB07B34B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0D71-C9BB-40D2-9194-39E4A877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37443-314D-485D-83DA-0F56A63C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E5D9E-F714-4F12-884B-D3536954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DD2FE-023B-453E-AF35-E182AB2D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61E15-2B21-4A38-A5C8-186FB0B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AF99-2B9F-4BD9-B65D-7D95021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BEBF-E896-4FE0-A57E-0687FFC9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B98AD-5170-4662-AEC4-81D1C872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40FEA-ED74-4616-9C80-073CDC24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FE4-E0B7-4D2A-8B04-64977BAF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6C455-56FF-4952-9739-61DC4E55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5DFA4-276F-4B34-8C3D-B6DF18A9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0B26-1E49-42C5-A023-9996DF92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D401A-A24E-46DD-A9B3-59ED2F91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90B01-648C-422F-857A-D2BC8F25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8542-F1DA-464F-99D7-DB6567FB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7C4C6-4526-465B-BDBA-6B837651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BFEC3-4115-4D99-9614-2720E9F7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D0C24-C11C-4663-9263-737E1390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C6BA0-BCF6-4BA2-9226-C3076D1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962-10EB-485E-8A6E-A6DF9786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28FBD-DCA2-497D-A950-2DD89B9E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3C95F-1512-4DA7-A3B5-BDEA0292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279C4-739B-4FA8-AE4B-DAA2CB18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838F7-D83A-42BF-BA3F-10495EB3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0136A-CCF9-4187-8205-A77DA188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EE5CA-D50E-44CA-8E4B-91992918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28503-BD30-480B-8257-9F07A6D7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7F303-D7F3-4FCD-AA88-F8AC0F9D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3F205-0048-4D4C-BA4B-7910DBAA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592FF-50DB-4323-912B-61675814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49C-D214-45F2-AC9E-12CE89F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AEFAB-7C32-4914-9DF0-FFB692D7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7D5EF-4406-4F4A-903B-27B873DA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7315F-0A15-4D05-985A-B61090C2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F915D-8FF2-4AB4-BBF3-73965B65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A48DC-8484-420A-B991-63F4FC4B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F88B9-9457-456D-B987-E5D4EC2E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E565D-4467-4843-9910-A5039B7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D3EDE-3F07-42CB-88DD-A7B5643E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97D3D-4C30-4051-8249-76C3ADEE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2EFE6-05C6-4EC1-86E6-DB51FAEE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811-4F62-453B-85A4-7B3F8D44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2419C-0E8A-4098-9919-2F114520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6893-8C3C-4F92-A8D4-6D25D213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5943B-AC44-491D-9900-FB4B666D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0E36F-8D40-43FD-9DC7-6BA080D5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4452F-8F95-4E14-B95D-196F6046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468C0-68EB-46D0-B172-F81FFDEF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63932-05D3-464E-A77E-4053864E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E4EDB-6766-4487-B675-A17A6AA8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34AF7-05DA-4F49-A965-01876F68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F124E-6464-4641-B9F2-EFDE70E9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5D48-331A-4571-BF9A-322E59C75D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8E0D-AD6A-4A75-BBB5-AD01209128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B2ED-7D2C-44A0-B998-D6E47CD6B6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FE6D-D735-4AEE-84B4-C8837D9B24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8CB8-2B63-4EF9-94AD-279CA8F3D2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DA5C-0190-43FC-B47E-CB4671B634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F44A-63AA-4B37-A962-64EF58861E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3845-436C-491B-9644-6713B44CCC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ACCF-C865-4199-B99D-E07493C20D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09480" y="1682640"/>
            <a:ext cx="7944120" cy="3681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50560" y="5013360"/>
            <a:ext cx="48258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чителя начальных классов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БОУ «Гимназия № 25» г.Иркутска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Захаренко Надежда Александровна, Солодовникова Лидия Алексеевна, Харламова Евгения Артемов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Объект 2"/>
          <p:cNvSpPr/>
          <p:nvPr/>
        </p:nvSpPr>
        <p:spPr>
          <a:xfrm>
            <a:off x="826920" y="549360"/>
            <a:ext cx="78487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  <a:ea typeface="Arial"/>
              </a:rPr>
              <a:t>III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сероссийский конкурс «Моя лучшая методическая разработк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826560" y="1341360"/>
            <a:ext cx="736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  <a:ea typeface="Verdana"/>
              </a:rPr>
              <a:t>V</a:t>
            </a:r>
            <a:r>
              <a:rPr b="0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 - уже знал это;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  <a:ea typeface="Verdana"/>
              </a:rPr>
              <a:t>+</a:t>
            </a:r>
            <a:r>
              <a:rPr b="1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 </a:t>
            </a:r>
            <a:r>
              <a:rPr b="0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- новое;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  <a:ea typeface="Verdana"/>
              </a:rPr>
              <a:t>?</a:t>
            </a:r>
            <a:r>
              <a:rPr b="1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 </a:t>
            </a:r>
            <a:r>
              <a:rPr b="0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- не понял, возник вопрос;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  <a:ea typeface="Verdana"/>
              </a:rPr>
              <a:t>–</a:t>
            </a:r>
            <a:r>
              <a:rPr b="0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 </a:t>
            </a:r>
            <a:r>
              <a:rPr b="0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- думал иначе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58760" y="291960"/>
            <a:ext cx="8686800" cy="1238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кв0018"/>
          <p:cNvPicPr/>
          <p:nvPr/>
        </p:nvPicPr>
        <p:blipFill>
          <a:blip r:embed="rId2"/>
          <a:stretch/>
        </p:blipFill>
        <p:spPr>
          <a:xfrm>
            <a:off x="4788000" y="1628640"/>
            <a:ext cx="3384360" cy="4902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кв0019"/>
          <p:cNvPicPr/>
          <p:nvPr/>
        </p:nvPicPr>
        <p:blipFill>
          <a:blip r:embed="rId3"/>
          <a:stretch/>
        </p:blipFill>
        <p:spPr>
          <a:xfrm>
            <a:off x="468360" y="1628640"/>
            <a:ext cx="3659040" cy="4795920"/>
          </a:xfrm>
          <a:prstGeom prst="rect">
            <a:avLst/>
          </a:prstGeom>
          <a:ln w="0">
            <a:noFill/>
          </a:ln>
        </p:spPr>
      </p:pic>
      <p:sp>
        <p:nvSpPr>
          <p:cNvPr id="423" name="Line 6"/>
          <p:cNvSpPr/>
          <p:nvPr/>
        </p:nvSpPr>
        <p:spPr>
          <a:xfrm>
            <a:off x="3635280" y="299736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7"/>
          <p:cNvSpPr/>
          <p:nvPr/>
        </p:nvSpPr>
        <p:spPr>
          <a:xfrm flipV="1">
            <a:off x="1835280" y="5373720"/>
            <a:ext cx="36734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3492360" y="4220640"/>
            <a:ext cx="1366920" cy="100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4788000" y="4149720"/>
            <a:ext cx="2448000" cy="136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2771640" y="6021360"/>
            <a:ext cx="432144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3132000" y="1989000"/>
            <a:ext cx="4104000" cy="129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686800" cy="11221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пары 1 ряда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- слон и мамонт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пары 2 ряда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- лев и пещерный лев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пары 3 ряда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- орёл и археоптерикс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457200" y="1600200"/>
          <a:ext cx="8435880" cy="4556160"/>
        </p:xfrm>
        <a:graphic>
          <a:graphicData uri="http://schemas.openxmlformats.org/drawingml/2006/table">
            <a:tbl>
              <a:tblPr/>
              <a:tblGrid>
                <a:gridCol w="2459160"/>
                <a:gridCol w="3027240"/>
                <a:gridCol w="2949480"/>
              </a:tblGrid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Мамон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Сло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ит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Место об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62080" y="281160"/>
            <a:ext cx="8424720" cy="127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457200" y="1600200"/>
          <a:ext cx="8435880" cy="4978440"/>
        </p:xfrm>
        <a:graphic>
          <a:graphicData uri="http://schemas.openxmlformats.org/drawingml/2006/table">
            <a:tbl>
              <a:tblPr/>
              <a:tblGrid>
                <a:gridCol w="1882800"/>
                <a:gridCol w="3603600"/>
                <a:gridCol w="2949480"/>
              </a:tblGrid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Мамон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Сло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ерсть, огромные бив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отная, шершавая шкура без волосяного покр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огнутыми бивнями доставали из под снега съедобные рас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лодые побеги деревьев, трава, пло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3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сто об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и льдов, в суровом клима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жарком клима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468360" y="1125360"/>
          <a:ext cx="8229600" cy="4789800"/>
        </p:xfrm>
        <a:graphic>
          <a:graphicData uri="http://schemas.openxmlformats.org/drawingml/2006/table">
            <a:tbl>
              <a:tblPr/>
              <a:tblGrid>
                <a:gridCol w="2232000"/>
                <a:gridCol w="3538440"/>
                <a:gridCol w="245916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Пещерный ле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Ле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5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хота и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01600" y="0"/>
            <a:ext cx="8424720" cy="12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68360" y="1125360"/>
          <a:ext cx="8229600" cy="5248440"/>
        </p:xfrm>
        <a:graphic>
          <a:graphicData uri="http://schemas.openxmlformats.org/drawingml/2006/table">
            <a:tbl>
              <a:tblPr/>
              <a:tblGrid>
                <a:gridCol w="2232000"/>
                <a:gridCol w="3538440"/>
                <a:gridCol w="245916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Пещерный ле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Ле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линные кинжаловидные зу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льшая грива, золотистый ме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лени, пещерные медве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еб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хота и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диноч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хотятся в основном сам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468360" y="1125360"/>
          <a:ext cx="8229600" cy="4821480"/>
        </p:xfrm>
        <a:graphic>
          <a:graphicData uri="http://schemas.openxmlformats.org/drawingml/2006/table">
            <a:tbl>
              <a:tblPr/>
              <a:tblGrid>
                <a:gridCol w="2158920"/>
                <a:gridCol w="3611520"/>
                <a:gridCol w="245916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Археоптерик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Орё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73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6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73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01600" y="0"/>
            <a:ext cx="8424720" cy="12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0" name=""/>
          <p:cNvGraphicFramePr/>
          <p:nvPr/>
        </p:nvGraphicFramePr>
        <p:xfrm>
          <a:off x="250920" y="1125360"/>
          <a:ext cx="8642160" cy="5261040"/>
        </p:xfrm>
        <a:graphic>
          <a:graphicData uri="http://schemas.openxmlformats.org/drawingml/2006/table">
            <a:tbl>
              <a:tblPr/>
              <a:tblGrid>
                <a:gridCol w="2089080"/>
                <a:gridCol w="3354480"/>
                <a:gridCol w="319860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Археоптерик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Орё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ло покрыто перьями, зубы похожи на крокодиль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откий хвост, широкие крыл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екомые, мелкие ящер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лкие позвоночные, пада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нездятся на скал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нездятся на земле, скалах или деревь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158760" y="291960"/>
            <a:ext cx="8686800" cy="1238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кв0018"/>
          <p:cNvPicPr/>
          <p:nvPr/>
        </p:nvPicPr>
        <p:blipFill>
          <a:blip r:embed="rId2"/>
          <a:stretch/>
        </p:blipFill>
        <p:spPr>
          <a:xfrm>
            <a:off x="4788000" y="1628640"/>
            <a:ext cx="3384360" cy="4902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кв0019"/>
          <p:cNvPicPr/>
          <p:nvPr/>
        </p:nvPicPr>
        <p:blipFill>
          <a:blip r:embed="rId3"/>
          <a:stretch/>
        </p:blipFill>
        <p:spPr>
          <a:xfrm>
            <a:off x="468360" y="1628640"/>
            <a:ext cx="36590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-36360" y="-19080"/>
            <a:ext cx="9021600" cy="1682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275px-African_Lion_Panthera_leo_Male_Pittsburgh_2800px[1]"/>
          <p:cNvPicPr/>
          <p:nvPr/>
        </p:nvPicPr>
        <p:blipFill>
          <a:blip r:embed="rId2"/>
          <a:stretch/>
        </p:blipFill>
        <p:spPr>
          <a:xfrm>
            <a:off x="324000" y="1773360"/>
            <a:ext cx="6408720" cy="45640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6973920" y="1484280"/>
            <a:ext cx="18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Verdana"/>
                <a:ea typeface="Arial"/>
              </a:rPr>
              <a:t>лев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4"/>
          <p:cNvSpPr/>
          <p:nvPr/>
        </p:nvSpPr>
        <p:spPr>
          <a:xfrm>
            <a:off x="574200" y="1052640"/>
            <a:ext cx="377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Arial"/>
              </a:rPr>
              <a:t>скорпионы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5249520" y="2705040"/>
            <a:ext cx="30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Arial"/>
              </a:rPr>
              <a:t>гаттер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6" descr="PH08207[1]"/>
          <p:cNvPicPr/>
          <p:nvPr/>
        </p:nvPicPr>
        <p:blipFill>
          <a:blip r:embed="rId1"/>
          <a:stretch/>
        </p:blipFill>
        <p:spPr>
          <a:xfrm>
            <a:off x="314280" y="2117880"/>
            <a:ext cx="4103640" cy="2835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" descr="PH09116[1]"/>
          <p:cNvPicPr/>
          <p:nvPr/>
        </p:nvPicPr>
        <p:blipFill>
          <a:blip r:embed="rId2"/>
          <a:stretch/>
        </p:blipFill>
        <p:spPr>
          <a:xfrm>
            <a:off x="4762440" y="3835440"/>
            <a:ext cx="40338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58760" y="291960"/>
            <a:ext cx="8686800" cy="1238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кв0018"/>
          <p:cNvPicPr/>
          <p:nvPr/>
        </p:nvPicPr>
        <p:blipFill>
          <a:blip r:embed="rId2"/>
          <a:stretch/>
        </p:blipFill>
        <p:spPr>
          <a:xfrm>
            <a:off x="4788000" y="1628640"/>
            <a:ext cx="3384360" cy="49024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кв0019"/>
          <p:cNvPicPr/>
          <p:nvPr/>
        </p:nvPicPr>
        <p:blipFill>
          <a:blip r:embed="rId3"/>
          <a:stretch/>
        </p:blipFill>
        <p:spPr>
          <a:xfrm>
            <a:off x="468360" y="1628640"/>
            <a:ext cx="36590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868680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"/>
          <p:cNvGraphicFramePr/>
          <p:nvPr/>
        </p:nvGraphicFramePr>
        <p:xfrm>
          <a:off x="468360" y="1628640"/>
          <a:ext cx="8280360" cy="4321440"/>
        </p:xfrm>
        <a:graphic>
          <a:graphicData uri="http://schemas.openxmlformats.org/drawingml/2006/table">
            <a:tbl>
              <a:tblPr/>
              <a:tblGrid>
                <a:gridCol w="2808360"/>
                <a:gridCol w="3205080"/>
                <a:gridCol w="2266920"/>
              </a:tblGrid>
              <a:tr h="13194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на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Хотим узн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Узна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0020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Животные древние и современные;Первые пресмыкаю-щиеся - динозав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Чем питалис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то выжил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ак изменилис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то исчез? По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628560" y="128520"/>
            <a:ext cx="6107040" cy="1901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1682640" y="3643200"/>
            <a:ext cx="603360" cy="2332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" descr=""/>
          <p:cNvPicPr/>
          <p:nvPr/>
        </p:nvPicPr>
        <p:blipFill>
          <a:blip r:embed="rId3"/>
          <a:stretch/>
        </p:blipFill>
        <p:spPr>
          <a:xfrm>
            <a:off x="2286000" y="3643200"/>
            <a:ext cx="2981160" cy="6764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4"/>
          <a:stretch/>
        </p:blipFill>
        <p:spPr>
          <a:xfrm>
            <a:off x="5246640" y="1987560"/>
            <a:ext cx="603360" cy="2332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5"/>
          <a:stretch/>
        </p:blipFill>
        <p:spPr>
          <a:xfrm>
            <a:off x="5850000" y="1987560"/>
            <a:ext cx="2981160" cy="676440"/>
          </a:xfrm>
          <a:prstGeom prst="rect">
            <a:avLst/>
          </a:prstGeom>
          <a:ln w="0">
            <a:noFill/>
          </a:ln>
        </p:spPr>
      </p:pic>
      <p:sp>
        <p:nvSpPr>
          <p:cNvPr id="458" name="Прямоугольник 7"/>
          <p:cNvSpPr/>
          <p:nvPr/>
        </p:nvSpPr>
        <p:spPr>
          <a:xfrm>
            <a:off x="4067280" y="4857840"/>
            <a:ext cx="429084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23227"/>
                </a:solidFill>
                <a:latin typeface="Franklin Gothic Book"/>
              </a:rPr>
              <a:t>Лесенка успех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6"/>
          <a:stretch/>
        </p:blipFill>
        <p:spPr>
          <a:xfrm>
            <a:off x="3286080" y="2571840"/>
            <a:ext cx="781200" cy="1258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7"/>
          <a:stretch/>
        </p:blipFill>
        <p:spPr>
          <a:xfrm>
            <a:off x="6643800" y="728640"/>
            <a:ext cx="780840" cy="1258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8"/>
          <a:stretch/>
        </p:blipFill>
        <p:spPr>
          <a:xfrm>
            <a:off x="928800" y="4694400"/>
            <a:ext cx="780840" cy="12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3" name="Picture 3" descr="Винн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4"/>
          <p:cNvSpPr/>
          <p:nvPr/>
        </p:nvSpPr>
        <p:spPr>
          <a:xfrm>
            <a:off x="605520" y="380880"/>
            <a:ext cx="520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e0000"/>
                </a:solidFill>
                <a:latin typeface="Georgia"/>
                <a:ea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AutoShape 5">
            <a:hlinkClick r:id="rId2" action="ppaction://hlinksldjump"/>
          </p:cNvPr>
          <p:cNvSpPr/>
          <p:nvPr/>
        </p:nvSpPr>
        <p:spPr>
          <a:xfrm>
            <a:off x="179280" y="6019920"/>
            <a:ext cx="2335320" cy="649080"/>
          </a:xfrm>
          <a:custGeom>
            <a:avLst/>
            <a:gdLst>
              <a:gd name="textAreaLeft" fmla="*/ 41760 w 2335320"/>
              <a:gd name="textAreaRight" fmla="*/ 2293560 w 23353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77683" h="21600">
                <a:moveTo>
                  <a:pt x="0" y="0"/>
                </a:moveTo>
                <a:lnTo>
                  <a:pt x="77683" y="0"/>
                </a:lnTo>
                <a:lnTo>
                  <a:pt x="77683" y="21600"/>
                </a:lnTo>
                <a:lnTo>
                  <a:pt x="0" y="21600"/>
                </a:lnTo>
                <a:close/>
              </a:path>
              <a:path fill="lightenLess" w="77683" h="21600">
                <a:moveTo>
                  <a:pt x="0" y="0"/>
                </a:moveTo>
                <a:lnTo>
                  <a:pt x="77683" y="0"/>
                </a:lnTo>
                <a:lnTo>
                  <a:pt x="76283" y="1400"/>
                </a:lnTo>
                <a:lnTo>
                  <a:pt x="1400" y="1400"/>
                </a:lnTo>
                <a:close/>
              </a:path>
              <a:path fill="darken" w="77683" h="21600">
                <a:moveTo>
                  <a:pt x="77683" y="0"/>
                </a:moveTo>
                <a:lnTo>
                  <a:pt x="77683" y="21600"/>
                </a:lnTo>
                <a:lnTo>
                  <a:pt x="76283" y="20200"/>
                </a:lnTo>
                <a:lnTo>
                  <a:pt x="76283" y="1400"/>
                </a:lnTo>
                <a:close/>
              </a:path>
              <a:path fill="darkenLess" w="77683" h="21600">
                <a:moveTo>
                  <a:pt x="77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83" y="20200"/>
                </a:lnTo>
                <a:close/>
              </a:path>
              <a:path fill="lighten" w="77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569c5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8705880" cy="2206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8145920[1]"/>
          <p:cNvPicPr/>
          <p:nvPr/>
        </p:nvPicPr>
        <p:blipFill>
          <a:blip r:embed="rId2"/>
          <a:stretch/>
        </p:blipFill>
        <p:spPr>
          <a:xfrm>
            <a:off x="684360" y="1413000"/>
            <a:ext cx="66229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-92160" y="-139680"/>
            <a:ext cx="9102960" cy="2011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1131[1]"/>
          <p:cNvPicPr/>
          <p:nvPr/>
        </p:nvPicPr>
        <p:blipFill>
          <a:blip r:embed="rId2"/>
          <a:stretch/>
        </p:blipFill>
        <p:spPr>
          <a:xfrm>
            <a:off x="611280" y="1628640"/>
            <a:ext cx="676908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-19080" y="-146160"/>
            <a:ext cx="8645400" cy="2011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G:\уроки 1 В\февраль\открытый урок в четверг\Dinazor_Resimleri21.jpg"/>
          <p:cNvPicPr/>
          <p:nvPr/>
        </p:nvPicPr>
        <p:blipFill>
          <a:blip r:embed="rId2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-171360" y="-212760"/>
            <a:ext cx="9156600" cy="2206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i[7]"/>
          <p:cNvPicPr/>
          <p:nvPr/>
        </p:nvPicPr>
        <p:blipFill>
          <a:blip r:embed="rId2"/>
          <a:stretch/>
        </p:blipFill>
        <p:spPr>
          <a:xfrm>
            <a:off x="1332000" y="1557360"/>
            <a:ext cx="662472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868680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611280" y="1628640"/>
          <a:ext cx="7921440" cy="4530960"/>
        </p:xfrm>
        <a:graphic>
          <a:graphicData uri="http://schemas.openxmlformats.org/drawingml/2006/table">
            <a:tbl>
              <a:tblPr/>
              <a:tblGrid>
                <a:gridCol w="2219400"/>
                <a:gridCol w="3533760"/>
                <a:gridCol w="2168280"/>
              </a:tblGrid>
              <a:tr h="13194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на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Хотим узн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Узна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211560"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868680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68360" y="1628640"/>
          <a:ext cx="8280360" cy="4321440"/>
        </p:xfrm>
        <a:graphic>
          <a:graphicData uri="http://schemas.openxmlformats.org/drawingml/2006/table">
            <a:tbl>
              <a:tblPr/>
              <a:tblGrid>
                <a:gridCol w="2590920"/>
                <a:gridCol w="3422520"/>
                <a:gridCol w="2266920"/>
              </a:tblGrid>
              <a:tr h="13194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на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Хотим узн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Узна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0020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Животные древние и современные;Первые пресмыкаю-щиеся - динозав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868680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8" name=""/>
          <p:cNvGraphicFramePr/>
          <p:nvPr/>
        </p:nvGraphicFramePr>
        <p:xfrm>
          <a:off x="324000" y="1484280"/>
          <a:ext cx="8496000" cy="4670280"/>
        </p:xfrm>
        <a:graphic>
          <a:graphicData uri="http://schemas.openxmlformats.org/drawingml/2006/table">
            <a:tbl>
              <a:tblPr/>
              <a:tblGrid>
                <a:gridCol w="2881080"/>
                <a:gridCol w="3621240"/>
                <a:gridCol w="1993680"/>
              </a:tblGrid>
              <a:tr h="6876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на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Хотим узн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Узна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9826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Животные древние и современ-ные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ервые пресмыкаю-щиеся - динозав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Чем питалис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то выжил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ак изменилис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то исчез? 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1:20:55Z</dcterms:created>
  <dc:creator>Notebook 6</dc:creator>
  <dc:description/>
  <dc:language>en-US</dc:language>
  <cp:lastModifiedBy>jary_snow13@mail.ru</cp:lastModifiedBy>
  <dcterms:modified xsi:type="dcterms:W3CDTF">2022-01-12T14:37:38Z</dcterms:modified>
  <cp:revision>23</cp:revision>
  <dc:subject/>
  <dc:title>Наблюдаю мир вокруг меня</dc:title>
</cp:coreProperties>
</file>